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724-EA0C-43F8-895F-472B7ADC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1A83-B692-46E4-A866-E7781F35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596C-4021-4275-8840-6B107CB5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BBF-0D35-4D32-BE33-5F0F99CD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66A-033F-4FEB-AD18-9A44F7ED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09E6-BA67-4FFA-A7B0-B8CFD9B8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38F-94FA-48FF-8A7D-DCC8A784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D56A-D9EE-43BA-888D-BE3998FC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959-5669-47A0-9B90-42081670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07AE-B428-41C4-BC3D-19248564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5CB2-2197-4790-977D-5922E64E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6D3A-282F-4358-972A-8D8DF145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EEED-1132-411F-BA37-A8C3DA91CA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ent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76176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oose a news story that interests you and bring it to share with the clas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mmarize the main points in a paragraph or point form.  Include the heading and any important names, dates or pla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 Include where you found or heard the story.     What’s the source?  (radio station, tv station, show, newspaper, online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 Is it from a reliable sour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.  Is this story local, provincial, national or global news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2:03:12Z</dcterms:created>
  <dc:creator>ED18</dc:creator>
  <dc:description/>
  <dc:language>en-US</dc:language>
  <cp:lastModifiedBy>ED18</cp:lastModifiedBy>
  <cp:lastPrinted>2011-09-16T16:58:11Z</cp:lastPrinted>
  <dcterms:modified xsi:type="dcterms:W3CDTF">2013-09-20T10:15:06Z</dcterms:modified>
  <cp:revision>7</cp:revision>
  <dc:subject/>
  <dc:title>Current Events</dc:title>
</cp:coreProperties>
</file>